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D47-DC47-4AA9-A58D-E65CB158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D7E-FBD5-42DC-AB99-043350F1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52C-9710-4535-903E-8F514FCA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B27-3180-4A52-BBDF-4F0FF497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2C8-29F0-4B20-AA27-FA3DAB19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C91-34A6-4536-9145-A0244235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EFA-5CD4-41E9-A60E-17827FF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EE6-4568-4DE0-A3CA-EC6AA68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86B-E104-4146-9A4F-570FC1D9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035-3140-4272-8FCA-22D8FC05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E36-516B-4FAB-9E8E-8976777C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33F-132E-4658-857E-3D8F7F8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ED0E-F0D1-4A35-9218-A18F1D05D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2:35:25Z</dcterms:created>
  <dc:creator>eTime</dc:creator>
  <dc:description/>
  <dc:language>en-US</dc:language>
  <cp:lastModifiedBy>eTime</cp:lastModifiedBy>
  <dcterms:modified xsi:type="dcterms:W3CDTF">2009-08-11T02:35:50Z</dcterms:modified>
  <cp:revision>1</cp:revision>
  <dc:subject/>
  <dc:title>Test</dc:title>
</cp:coreProperties>
</file>